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8.png" ContentType="image/png"/>
  <Override PartName="/ppt/media/image30.png" ContentType="image/png"/>
  <Override PartName="/ppt/media/image8.jpeg" ContentType="image/jpeg"/>
  <Override PartName="/ppt/media/image38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.png" ContentType="image/png"/>
  <Override PartName="/ppt/media/image34.gif" ContentType="image/gi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C244-6349-41E4-94C1-239EA45C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4D11-8C6C-47F6-80A8-BFAB1050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FD43-CDB5-44C2-B09C-98A671A3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F552-C097-4AF2-B6E1-E8430B12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839D-90CC-42F7-A2CE-24B84220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E31C-DBFD-4EA1-B74B-D9A2D24A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EEA1-E6D6-49C8-A040-7EE92E01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861C-A2A3-4E23-A87A-C5B30951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F09B-1661-4516-AD45-0D78806F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6A59-F314-4E5B-961F-6E21D22E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EF61-1E4B-4020-B821-EB114645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2222-AB1A-4F26-A315-1A11B99B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5D94-3865-4B39-BF4F-C92A34C7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41D2-48EE-41FF-B98E-61D694D2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9A30-46E9-4C32-9886-02F984EA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C135-506F-4548-8FAE-45565231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7404-AD6F-4A9E-AAAD-D05A1394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0B6-870E-4D31-BB3B-ED4C1F9B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3E55-4AFE-472B-BF8B-D80F457A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5C73-C533-42D4-9195-61DF293C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AEDB-07AA-4673-A4B6-3AC5EA72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CAD5-754E-425D-8BB0-EB6AA7DA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943C-9B88-4568-8BC3-8C2D346D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A847-CA73-4651-B8B4-911D7DE6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F609-45C2-414C-9FE7-89723AF598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F0A5-B438-4B88-9E33-AB38F65895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ience.howstuffworks.com/carbon-141.htm" TargetMode="External"/><Relationship Id="rId2" Type="http://schemas.openxmlformats.org/officeDocument/2006/relationships/hyperlink" Target="http://video.google.com/videosearch?q=carbon+dating&amp;hl=en&amp;emb=0&amp;aq=f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Biochemis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0" y="1876320"/>
            <a:ext cx="4572000" cy="3745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4270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ANT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32767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33526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5520" y="487692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of 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86760" y="48769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of a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ids and bas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idity is measured with the pH sc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 1 2 3 4 5 6 7 8 9 10 11 12 13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id: substance that releases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: substance that releases O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¯ in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22860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2362320"/>
            <a:ext cx="2743200" cy="533160"/>
          </a:xfrm>
          <a:prstGeom prst="leftArrow">
            <a:avLst>
              <a:gd name="adj1" fmla="val 50000"/>
              <a:gd name="adj2" fmla="val 12862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362320"/>
            <a:ext cx="2971800" cy="561960"/>
          </a:xfrm>
          <a:prstGeom prst="rightArrow">
            <a:avLst>
              <a:gd name="adj1" fmla="val 50000"/>
              <a:gd name="adj2" fmla="val 13220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10600" y="3683160"/>
            <a:ext cx="12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09280" y="2921040"/>
            <a:ext cx="102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-6.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62480" y="2921040"/>
            <a:ext cx="124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A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7.1-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Properties of Wa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838080"/>
            <a:ext cx="64771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arity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nequal e- dis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) wat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Bonds: weak at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hesion: stick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hesion: stick to another sub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illary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sol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324480" y="819000"/>
            <a:ext cx="2819520" cy="2355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172200" y="3352680"/>
            <a:ext cx="3022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Biomolecule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arbohydrat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ipi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ucleic aci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biomolecules have long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arb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ains (some longer than oth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hav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N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S (single molecules) that when bonded together make bigger biomolecules (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O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Methane.gif (4691 bytes)"/>
          <p:cNvPicPr/>
          <p:nvPr/>
        </p:nvPicPr>
        <p:blipFill>
          <a:blip r:embed="rId1"/>
          <a:stretch/>
        </p:blipFill>
        <p:spPr>
          <a:xfrm>
            <a:off x="1963800" y="1600200"/>
            <a:ext cx="4741920" cy="4952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29000" y="6094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14400"/>
            <a:ext cx="213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an form 4 different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175248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foundation for the major molecules of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ropane" descr="Propane.JPG (10177 bytes)"/>
          <p:cNvPicPr/>
          <p:nvPr/>
        </p:nvPicPr>
        <p:blipFill>
          <a:blip r:embed="rId1"/>
          <a:stretch/>
        </p:blipFill>
        <p:spPr>
          <a:xfrm>
            <a:off x="304920" y="457200"/>
            <a:ext cx="4952880" cy="5562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715000" y="685800"/>
            <a:ext cx="304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arbon can form long chains with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2590920"/>
            <a:ext cx="4343400" cy="3962160"/>
          </a:xfrm>
          <a:custGeom>
            <a:avLst/>
            <a:gdLst>
              <a:gd name="textAreaLeft" fmla="*/ 991440 w 4343400"/>
              <a:gd name="textAreaRight" fmla="*/ 3351960 w 4343400"/>
              <a:gd name="textAreaTop" fmla="*/ 904320 h 3962160"/>
              <a:gd name="textAreaBottom" fmla="*/ 3057840 h 3962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Comic Sans MS"/>
              </a:rPr>
              <a:t>A lot of energy can be stored in these ch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7010640" cy="4017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438280" y="3705120"/>
            <a:ext cx="4343400" cy="3152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flipH="1">
            <a:off x="5409720" y="3048120"/>
            <a:ext cx="1295640" cy="1371600"/>
          </a:xfrm>
          <a:prstGeom prst="line">
            <a:avLst/>
          </a:prstGeom>
          <a:ln w="572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962520"/>
            <a:ext cx="1600200" cy="253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Carbon is green in thi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acromolecu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09480"/>
            <a:ext cx="609588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Carbon Chem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 4 covalent b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ds with itself forming straight chains, branched chains, or r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form single, double, or triple b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533520"/>
            <a:ext cx="304812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y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rcRect l="2269" t="2560" r="2269" b="6486"/>
          <a:stretch/>
        </p:blipFill>
        <p:spPr>
          <a:xfrm>
            <a:off x="0" y="4724280"/>
            <a:ext cx="6400800" cy="2133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451560" y="2895480"/>
            <a:ext cx="2692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hydration Synthesis=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lymer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4163" t="0" r="7566" b="15388"/>
          <a:stretch/>
        </p:blipFill>
        <p:spPr>
          <a:xfrm>
            <a:off x="457200" y="4344840"/>
            <a:ext cx="8077320" cy="2513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80480" y="4089240"/>
            <a:ext cx="2250360" cy="5796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39560" y="3814200"/>
            <a:ext cx="3295800" cy="9471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Monomers Bond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y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46483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4724280"/>
            <a:ext cx="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219320"/>
            <a:ext cx="9144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abolic rea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duces polym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omer + Monomer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olymer + Wa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bas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ubstance that cannot be broken down into simpler chemical substances.  Contains ONLY ONE TYPE OF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, H, O, N --&gt; make up &gt;96% of human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e elements --&gt; Ca, Mg, Na, K …  cannot live without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t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mallest particle of an element that maintains the characteristics of that 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219320"/>
            <a:ext cx="91440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tabolic rea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duces monom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) Polysaccharide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nosacchar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lymer + Water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onomer + Monom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ydro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4125" t="13336" r="6012" b="7646"/>
          <a:stretch/>
        </p:blipFill>
        <p:spPr>
          <a:xfrm>
            <a:off x="0" y="4257720"/>
            <a:ext cx="9144000" cy="2600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389960" y="3936960"/>
            <a:ext cx="1558440" cy="5796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07800" y="3661920"/>
            <a:ext cx="3763800" cy="9471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rate polymer i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mon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495680"/>
            <a:ext cx="99072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4572000"/>
            <a:ext cx="22860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omer: monosaccha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: C, H, 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io: 2H : 1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saccharide: glucose, fructose (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ccharide: sucrose, galactose (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ysaccharide: starch (depends on number of C in ch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 (in pla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320040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onosaccharides: Isom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2695" t="0" r="1295" b="1130"/>
          <a:stretch/>
        </p:blipFill>
        <p:spPr>
          <a:xfrm>
            <a:off x="0" y="4343400"/>
            <a:ext cx="8153280" cy="2514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3784680"/>
            <a:ext cx="6629400" cy="57960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Glucose, Fructose, Galact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0"/>
            <a:ext cx="8229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arbohydr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952880" y="585720"/>
            <a:ext cx="4191120" cy="27734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44920" y="766080"/>
            <a:ext cx="3823200" cy="52056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ysaccharide: St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27240" y="2518560"/>
            <a:ext cx="4298400" cy="52056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saccharide: 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876920" y="1828440"/>
            <a:ext cx="30456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281952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990720"/>
            <a:ext cx="114300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ipid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omer: 1 glycerol and 3 fatty ac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: C. H, 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io: &gt;2H : 1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s, waxes, stero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ulation (warm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(more than carb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hioning/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spholipids in cell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rcRect l="0" t="0" r="0" b="10072"/>
          <a:stretch/>
        </p:blipFill>
        <p:spPr>
          <a:xfrm>
            <a:off x="228600" y="1752480"/>
            <a:ext cx="8915400" cy="43434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232560"/>
            <a:ext cx="9144000" cy="6426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Glycero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3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Fatty Acids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Trigycer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8380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8380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ur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id at room temp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bonds are SIN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⁭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sk for C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nsatura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quid at room temp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e or more bonds are dou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nounsaturated, polyunsatu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7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2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8400" t="5937" r="5511" b="1948"/>
          <a:stretch/>
        </p:blipFill>
        <p:spPr>
          <a:xfrm>
            <a:off x="0" y="0"/>
            <a:ext cx="45356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990720" y="3276720"/>
            <a:ext cx="4724280" cy="228600"/>
          </a:xfrm>
          <a:prstGeom prst="rightArrow">
            <a:avLst>
              <a:gd name="adj1" fmla="val 50000"/>
              <a:gd name="adj2" fmla="val 51665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990720"/>
            <a:ext cx="1752480" cy="8380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886200" y="1905120"/>
            <a:ext cx="175248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38280" y="762120"/>
            <a:ext cx="3733920" cy="228600"/>
          </a:xfrm>
          <a:prstGeom prst="rightArrow">
            <a:avLst>
              <a:gd name="adj1" fmla="val 50000"/>
              <a:gd name="adj2" fmla="val 408346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224760" y="609480"/>
            <a:ext cx="29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One double b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75120" y="1490760"/>
            <a:ext cx="32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one double b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96000" y="3124080"/>
            <a:ext cx="357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LL SINGLE B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5486400" cy="3105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5486400" cy="3105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943600" y="762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holeste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42670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estoster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2438280"/>
            <a:ext cx="2819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rbons are Gr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omer: amino ac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amino acids have CARBOXYL and AMINO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teins (cont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: C, H, O, 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and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zymes: speed up re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bodies: defen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al: building and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moglobin: carry 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brane proteins: channels and p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s have very specific shapes.  Their FUNCTION is dependant on their STRU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-3812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ato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t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protons (+) and neutrons (no charg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viest part of at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of protons makes each atom un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ctrons (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ating in clouds around nucle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energy lev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er shell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ence sh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have neutral charge (equal number of protons and electr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tomic #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#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tomic ma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# protons + # of 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 rot="19094400">
            <a:off x="5924160" y="2810880"/>
            <a:ext cx="300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te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tru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rote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533520"/>
            <a:ext cx="50292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peptide: 2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ypeptide: 3-100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: 100-1000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9579" t="8669" r="6596" b="30649"/>
          <a:stretch/>
        </p:blipFill>
        <p:spPr>
          <a:xfrm>
            <a:off x="6324480" y="533520"/>
            <a:ext cx="2819520" cy="1692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199040" y="994680"/>
            <a:ext cx="1978920" cy="9471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ino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Glyc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33120" y="2289960"/>
            <a:ext cx="1188000" cy="520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i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04160" y="3960"/>
            <a:ext cx="1524960" cy="52056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51000" y="2289960"/>
            <a:ext cx="1585800" cy="520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xy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781680" y="1752480"/>
            <a:ext cx="0" cy="5335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86600" y="533520"/>
            <a:ext cx="38088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8534520" y="1828800"/>
            <a:ext cx="0" cy="45720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53352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rcRect l="7121" t="0" r="4886" b="25643"/>
          <a:stretch/>
        </p:blipFill>
        <p:spPr>
          <a:xfrm>
            <a:off x="6400800" y="2819520"/>
            <a:ext cx="2743200" cy="1768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086600" y="533520"/>
            <a:ext cx="533520" cy="2438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534520" y="2819520"/>
            <a:ext cx="0" cy="68580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81680" y="2819520"/>
            <a:ext cx="152640" cy="6858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99040" y="3204720"/>
            <a:ext cx="1978920" cy="9471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ino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lan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81952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rcRect l="0" t="0" r="6665" b="21055"/>
          <a:stretch/>
        </p:blipFill>
        <p:spPr>
          <a:xfrm>
            <a:off x="0" y="4572000"/>
            <a:ext cx="8534520" cy="2286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7920" y="4042440"/>
            <a:ext cx="4019760" cy="5205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ptide Bond: Dipept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4572000"/>
            <a:ext cx="22100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4724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rotein</a:t>
            </a:r>
            <a:r>
              <a:rPr b="0" lang="en-US" sz="4000" spc="-1" strike="noStrike">
                <a:solidFill>
                  <a:srgbClr val="b2b2b2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Amino Acid Relationship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mino Aci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6858000" cy="38811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060640" y="5562720"/>
            <a:ext cx="33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itrogen ad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2895120" y="4114800"/>
            <a:ext cx="22860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9144000" cy="5175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14800" y="304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rotein in muscle fi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1067040" cy="603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57200" y="32004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e amino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685440" y="2209680"/>
            <a:ext cx="15228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772400" cy="43988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057400" y="4876920"/>
            <a:ext cx="4952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emoglob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ach red blood cell contains hundr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nzym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ENZYMES ARE 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zymes are CATALY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speed up reactions without being used up in those rea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lower the ACTIVATION ENERGY needed for a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VERY RE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BODY HAS A SPECIFIC ENZYME THAT HELPS IT HA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nzymes (cont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09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ck and key the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rate (ke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cule enzyme works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zyme (loc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site: part of enzyme that binds to subst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0" y="914400"/>
            <a:ext cx="4511520" cy="594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7242120" y="1911240"/>
            <a:ext cx="973080" cy="9720"/>
          </a:xfrm>
          <a:custGeom>
            <a:avLst/>
            <a:gdLst/>
            <a:ahLst/>
            <a:rect l="l" t="t" r="r" b="b"/>
            <a:pathLst>
              <a:path w="2704" h="26">
                <a:moveTo>
                  <a:pt x="20117" y="5333"/>
                </a:moveTo>
                <a:cubicBezTo>
                  <a:pt x="20200" y="5333"/>
                  <a:pt x="20282" y="5333"/>
                  <a:pt x="20365" y="5333"/>
                </a:cubicBezTo>
                <a:cubicBezTo>
                  <a:pt x="20390" y="5318"/>
                  <a:pt x="20386" y="5311"/>
                  <a:pt x="20439" y="5308"/>
                </a:cubicBezTo>
                <a:cubicBezTo>
                  <a:pt x="21228" y="5262"/>
                  <a:pt x="22030" y="5308"/>
                  <a:pt x="22820" y="530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250040" y="1982880"/>
            <a:ext cx="965160" cy="1440"/>
          </a:xfrm>
          <a:custGeom>
            <a:avLst/>
            <a:gdLst/>
            <a:ahLst/>
            <a:rect l="l" t="t" r="r" b="b"/>
            <a:pathLst>
              <a:path w="2680" h="1">
                <a:moveTo>
                  <a:pt x="20141" y="5507"/>
                </a:moveTo>
                <a:cubicBezTo>
                  <a:pt x="21034" y="5507"/>
                  <a:pt x="21927" y="5507"/>
                  <a:pt x="22820" y="550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35880" y="2143080"/>
            <a:ext cx="492120" cy="1800"/>
          </a:xfrm>
          <a:custGeom>
            <a:avLst/>
            <a:gdLst/>
            <a:ahLst/>
            <a:rect l="l" t="t" r="r" b="b"/>
            <a:pathLst>
              <a:path w="1365" h="1">
                <a:moveTo>
                  <a:pt x="20935" y="5953"/>
                </a:moveTo>
                <a:cubicBezTo>
                  <a:pt x="21390" y="5953"/>
                  <a:pt x="21844" y="5953"/>
                  <a:pt x="22299" y="595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34040" y="3857760"/>
            <a:ext cx="965160" cy="17280"/>
          </a:xfrm>
          <a:custGeom>
            <a:avLst/>
            <a:gdLst/>
            <a:ahLst/>
            <a:rect l="l" t="t" r="r" b="b"/>
            <a:pathLst>
              <a:path w="2680" h="50">
                <a:moveTo>
                  <a:pt x="17041" y="10765"/>
                </a:moveTo>
                <a:cubicBezTo>
                  <a:pt x="17264" y="10765"/>
                  <a:pt x="17505" y="10773"/>
                  <a:pt x="17711" y="10740"/>
                </a:cubicBezTo>
                <a:cubicBezTo>
                  <a:pt x="17735" y="10740"/>
                  <a:pt x="17744" y="10740"/>
                  <a:pt x="17760" y="10740"/>
                </a:cubicBezTo>
                <a:cubicBezTo>
                  <a:pt x="17783" y="10727"/>
                  <a:pt x="17784" y="10718"/>
                  <a:pt x="17835" y="10716"/>
                </a:cubicBezTo>
                <a:cubicBezTo>
                  <a:pt x="18460" y="10688"/>
                  <a:pt x="19094" y="10716"/>
                  <a:pt x="19720" y="1071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05680" y="3956040"/>
            <a:ext cx="893520" cy="9360"/>
          </a:xfrm>
          <a:custGeom>
            <a:avLst/>
            <a:gdLst/>
            <a:ahLst/>
            <a:rect l="l" t="t" r="r" b="b"/>
            <a:pathLst>
              <a:path w="2482" h="26">
                <a:moveTo>
                  <a:pt x="17239" y="10988"/>
                </a:moveTo>
                <a:cubicBezTo>
                  <a:pt x="17812" y="10988"/>
                  <a:pt x="19260" y="10737"/>
                  <a:pt x="19720" y="1101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56240" y="4098960"/>
            <a:ext cx="473040" cy="1440"/>
          </a:xfrm>
          <a:custGeom>
            <a:avLst/>
            <a:gdLst/>
            <a:ahLst/>
            <a:rect l="l" t="t" r="r" b="b"/>
            <a:pathLst>
              <a:path w="1315" h="1">
                <a:moveTo>
                  <a:pt x="17934" y="11385"/>
                </a:moveTo>
                <a:cubicBezTo>
                  <a:pt x="18372" y="11385"/>
                  <a:pt x="18810" y="11385"/>
                  <a:pt x="19248" y="1138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402680" y="5643720"/>
            <a:ext cx="901440" cy="36360"/>
          </a:xfrm>
          <a:custGeom>
            <a:avLst/>
            <a:gdLst/>
            <a:ahLst/>
            <a:rect l="l" t="t" r="r" b="b"/>
            <a:pathLst>
              <a:path w="2506" h="100">
                <a:moveTo>
                  <a:pt x="20563" y="15776"/>
                </a:moveTo>
                <a:cubicBezTo>
                  <a:pt x="20596" y="15776"/>
                  <a:pt x="20629" y="15776"/>
                  <a:pt x="20662" y="15776"/>
                </a:cubicBezTo>
                <a:cubicBezTo>
                  <a:pt x="20670" y="15773"/>
                  <a:pt x="20727" y="15761"/>
                  <a:pt x="20762" y="15751"/>
                </a:cubicBezTo>
                <a:cubicBezTo>
                  <a:pt x="20800" y="15740"/>
                  <a:pt x="20814" y="15729"/>
                  <a:pt x="20861" y="15726"/>
                </a:cubicBezTo>
                <a:cubicBezTo>
                  <a:pt x="20940" y="15722"/>
                  <a:pt x="21010" y="15711"/>
                  <a:pt x="21084" y="15701"/>
                </a:cubicBezTo>
                <a:cubicBezTo>
                  <a:pt x="21135" y="15694"/>
                  <a:pt x="21192" y="15683"/>
                  <a:pt x="21233" y="15677"/>
                </a:cubicBezTo>
                <a:cubicBezTo>
                  <a:pt x="21813" y="15588"/>
                  <a:pt x="22481" y="15677"/>
                  <a:pt x="23068" y="1567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392960" y="5749920"/>
            <a:ext cx="903240" cy="1440"/>
          </a:xfrm>
          <a:custGeom>
            <a:avLst/>
            <a:gdLst/>
            <a:ahLst/>
            <a:rect l="l" t="t" r="r" b="b"/>
            <a:pathLst>
              <a:path w="2507" h="1">
                <a:moveTo>
                  <a:pt x="20538" y="15974"/>
                </a:moveTo>
                <a:cubicBezTo>
                  <a:pt x="21373" y="15974"/>
                  <a:pt x="22209" y="15974"/>
                  <a:pt x="23044" y="1597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43880" y="5875200"/>
            <a:ext cx="482400" cy="27000"/>
          </a:xfrm>
          <a:custGeom>
            <a:avLst/>
            <a:gdLst/>
            <a:ahLst/>
            <a:rect l="l" t="t" r="r" b="b"/>
            <a:pathLst>
              <a:path w="1340" h="76">
                <a:moveTo>
                  <a:pt x="21233" y="16396"/>
                </a:moveTo>
                <a:cubicBezTo>
                  <a:pt x="21308" y="16396"/>
                  <a:pt x="21367" y="16390"/>
                  <a:pt x="21406" y="16371"/>
                </a:cubicBezTo>
                <a:cubicBezTo>
                  <a:pt x="21441" y="16353"/>
                  <a:pt x="21516" y="16349"/>
                  <a:pt x="21555" y="16346"/>
                </a:cubicBezTo>
                <a:cubicBezTo>
                  <a:pt x="21616" y="16341"/>
                  <a:pt x="21649" y="16336"/>
                  <a:pt x="21679" y="16321"/>
                </a:cubicBezTo>
                <a:cubicBezTo>
                  <a:pt x="21868" y="16227"/>
                  <a:pt x="22349" y="16321"/>
                  <a:pt x="22572" y="16321"/>
                </a:cubicBezTo>
                <a:cubicBezTo>
                  <a:pt x="22504" y="16321"/>
                  <a:pt x="22456" y="16329"/>
                  <a:pt x="22399" y="16346"/>
                </a:cubicBezTo>
                <a:cubicBezTo>
                  <a:pt x="22289" y="16379"/>
                  <a:pt x="22156" y="16335"/>
                  <a:pt x="22051" y="16371"/>
                </a:cubicBezTo>
                <a:cubicBezTo>
                  <a:pt x="21895" y="16424"/>
                  <a:pt x="21440" y="16371"/>
                  <a:pt x="21605" y="16371"/>
                </a:cubicBezTo>
                <a:cubicBezTo>
                  <a:pt x="21678" y="16371"/>
                  <a:pt x="21740" y="16366"/>
                  <a:pt x="21779" y="16346"/>
                </a:cubicBezTo>
                <a:cubicBezTo>
                  <a:pt x="21787" y="16346"/>
                  <a:pt x="21795" y="16346"/>
                  <a:pt x="21803" y="1634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4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990720" y="1355760"/>
            <a:ext cx="7010280" cy="55022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tivation Energ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0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ffect of enzym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90720" y="1255680"/>
            <a:ext cx="647676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0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600" y="380880"/>
          <a:ext cx="4038120" cy="3047760"/>
        </p:xfrm>
        <a:graphic>
          <a:graphicData uri="http://schemas.openxmlformats.org/drawingml/2006/table">
            <a:tbl>
              <a:tblPr/>
              <a:tblGrid>
                <a:gridCol w="2019240"/>
                <a:gridCol w="2018880"/>
              </a:tblGrid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tomic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.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ass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572000" y="380880"/>
          <a:ext cx="4571640" cy="3047760"/>
        </p:xfrm>
        <a:graphic>
          <a:graphicData uri="http://schemas.openxmlformats.org/drawingml/2006/table">
            <a:tbl>
              <a:tblPr/>
              <a:tblGrid>
                <a:gridCol w="2285640"/>
                <a:gridCol w="2286000"/>
              </a:tblGrid>
              <a:tr h="105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tomic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4.0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ass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286000" y="3581280"/>
          <a:ext cx="4495320" cy="3276000"/>
        </p:xfrm>
        <a:graphic>
          <a:graphicData uri="http://schemas.openxmlformats.org/drawingml/2006/table">
            <a:tbl>
              <a:tblPr/>
              <a:tblGrid>
                <a:gridCol w="2247480"/>
                <a:gridCol w="2247840"/>
              </a:tblGrid>
              <a:tr h="109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tomic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6.9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ass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omer: nucleot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: C, H, O, N, 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an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NA: has genes (information to make protei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NA: carries information from DNA to where proteins are m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2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7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2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Nucleotide &amp; D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28600" y="2235240"/>
            <a:ext cx="5410080" cy="43815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6627960" y="1143000"/>
            <a:ext cx="2287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905120" y="38088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mall Differences can make a Big Dif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5105520" cy="2889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04920" y="2057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itamin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4648320" cy="26305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40080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spir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9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905120" y="38088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mall Differences can make a Big Dif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800600" cy="2717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62120" y="3962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affe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3809880" y="3505320"/>
            <a:ext cx="5181840" cy="29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095880" y="3352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ico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lectron clou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s reside in clouds around 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clouds are at different energy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oud can hold up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co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oud can hold up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alence electr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umber of electrons in valence sh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etermine how many bonds that atom m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6240" y="325080"/>
            <a:ext cx="762948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will bond with other atoms when this makes them more s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t completes their valence electron clo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one atom gains electrons and another loses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val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toms share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hemical Bo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33520"/>
            <a:ext cx="533412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4343400" cy="5867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920" y="384840"/>
            <a:ext cx="233856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ic Bo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27720" y="2362320"/>
            <a:ext cx="4616280" cy="2514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418000" y="1299240"/>
            <a:ext cx="299088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alent Bo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sotope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science.howstuffworks.com/carbon-141.ht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video.google.com/videosearch?q=carbon+dating&amp;hl=en&amp;emb=0&amp;aq=f#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re vocabula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mpou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ubstance with atoms of 2 or more different elements that ar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hemical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mb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erties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unds joined by covalent bonds ar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x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uneven combination of substances in which element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eser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ir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evenly distributed mixture in which one or more substances (solute) are evenly distributed in another substance (solv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01:57:42Z</dcterms:created>
  <dc:creator>Ignacio/Jayo</dc:creator>
  <dc:description/>
  <dc:language>en-US</dc:language>
  <cp:lastModifiedBy>jayoig</cp:lastModifiedBy>
  <dcterms:modified xsi:type="dcterms:W3CDTF">2010-11-02T16:46:50Z</dcterms:modified>
  <cp:revision>18</cp:revision>
  <dc:subject/>
  <dc:title>Biochemistry</dc:title>
</cp:coreProperties>
</file>